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E43A-23D2-430C-AB54-CF2A17DAA4E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28F3-75A0-4374-A857-FF97C47E3BC0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1F41-7432-4E39-97D2-9F51E0A8AE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3F5-3459-41B3-BE18-FC30892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FB6-0A85-45B8-B69F-D362CA0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F4E9A-1321-43AB-819A-B2390F4D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C0ABE-4C3B-463F-8C35-9DE10A77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EC18-39F3-46EF-9BA4-A1EDAA1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9B4B4-45BD-4A77-BE1A-A9C7F8AA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99EC4-8FF1-4C12-864D-7407FBC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500F-FA3A-45C2-B834-EDE3267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83E05-D991-4B51-8288-E8AEC23D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A5C5-D9E0-43EC-B3E1-DB20E52F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A9E4-4FD9-4EAB-A868-A47A6549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DE171-4CD5-4B14-90EF-BE49C312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C48-7330-44E2-9D38-664A847D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CAB3E-7ED7-4B3E-AF30-6856A1F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5DE1-B3A3-4EB0-B7DB-D0B3D60E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CD015-BFB9-42FC-A896-15FBA7B0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6190B-2D4B-4CD2-9C5A-D02DF4D4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6DAAD-D893-4F03-B3AF-3D68974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E4D15-B20A-4293-BBAE-7FC4F5A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C72E-E0EC-4F44-83C3-0F492951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92F2B-CB4A-48F5-A552-6402D404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FA975-4303-4E1A-8485-F9A7269F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1947-85A5-474D-BD84-2A65AB60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60D-00B7-4E19-9DEA-1EE18C32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656C-75F6-449D-9DD0-1D3D62D6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500DB-93BA-4EBB-BED6-28C915F6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D5A2-88B5-42FF-991A-64FB2B3F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BEE27-6572-48DA-9526-20973C68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8E712-21ED-4E9E-9E24-096DC7CA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78B5-8B6C-4701-8EBB-4F3FC35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E453-D451-4738-9371-D78E321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A6AB6-923E-4E58-B6D3-580862D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9812-4F1C-48C8-8814-2AEB4B8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66C3-BC67-485C-B964-5360686E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580-581F-48B9-A1D2-1851AD47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E8E4-FB4F-4106-9738-AA1B4527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FFE71-D763-4CE2-BF6A-A3E47B70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828E2-04A1-4153-95EB-B92909BF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2B11C-EA42-4294-AE20-820EA6D2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9DDDA-1984-44E3-AAB6-8F6D7BA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09726-7E45-451A-98C1-2EA2106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8275B-8864-49A7-B19F-29331658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E3FA-792A-40F5-9E9D-41054E1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21247-5B03-4119-ABA0-C6AB269E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3C514-B3DF-4401-A4C8-C35B994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DB4E-070A-4D94-887A-8D59698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8E24C-1D6D-42C6-AC08-6CC5A93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6FCA3-9B34-453F-9422-DEF2C9E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42D2F-3BEE-4F76-B699-2434A582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732FC-C8C6-44BB-95D9-84D397B4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6740E-7CCC-49DC-BABE-0692DA9F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1F1-9225-4960-8F95-6E74314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B81D-C3D1-4335-B1E1-26D8F3F5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DC09-3D4C-4F22-8D10-4B83D0A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436-9AAF-417A-BD2D-59CE8E61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C5F9-0FDE-4DD1-A120-2C95618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A46-46E2-48E6-BF16-5C4FA00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ADC-B807-42E4-970B-85BFE3A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E23-49DE-4DF2-9469-EC482FAB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41F-4BD4-4389-91B7-288296B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AAEB-1CCB-402D-B2F5-77AF72C7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94A6-9305-4D5C-8D6B-B2DB8DBA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69F7-EDD7-46F3-BB52-168ED07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F803-4460-496D-8AB6-8F12430C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7FA3-A193-4FDB-BA24-70ABE855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3B0D-18CA-472A-931D-3BDF94A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A14F-B2C9-4A8D-B578-417A6B6C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024-EE67-4808-AE82-B22DBF8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722B-E9F0-429A-BE15-C625A83A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6050-6841-40D1-959E-35356BDD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FA53-9B84-46F3-B4F3-1FD0A44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40D4-77BE-4FFE-81A4-7D51504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3F29-323F-44D9-99AB-6BAE9FD9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FA31-8291-4F49-8867-C04C22FF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586F-6280-44BD-BFEB-A689317E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ECDB-82AA-4886-8C60-FE4EB469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B94D6-CEEB-4C38-96C6-607EB9EF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6468-C2CB-4F82-B218-B6D9AD8C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1A8-6A8E-4D6B-820D-95FCA0B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53F3-36F9-444E-86A0-B457360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8A08-9509-4033-B618-7C08D32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C65B-FD98-4B0A-8D4D-91CB46D2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9C87-FFB9-4153-91D7-FCC724A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84F6-D353-447E-BFE9-511A2E7D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2A4A-6833-4281-97C1-802542F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4296-AAFE-40E8-AC06-37309AE9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C4E2-42D2-433E-81F1-10CD00E3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07C7-ADB9-427B-93E7-11723C51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C192-ACA2-4E0B-91B3-22F25DFF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0C8-9CBB-423A-ABF8-75A02ED4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7BEA5-13C3-40DB-A6E5-E0F05DE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976F-A286-4EAA-A1EC-5F83643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0339-1433-4DB3-A0CF-D320921F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D439-3413-46AD-8F1C-E6BB285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707D-8BEF-4850-B81C-DEE5640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0492-54A6-40DD-8771-68C3CC0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96C6-6BE2-4E86-B3A9-DDABC7E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D511-A2DB-4D4C-95F3-656BE3D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7215A-8774-4453-9C12-8AD9ECD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F6A9-B293-4153-BF05-0A4472D7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33D-FED9-48F8-9744-B8FC2B5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9146-F24F-4872-88F7-0059ADC1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C67D-2024-4A2E-B695-E63C4628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BFD8-E200-4F70-BDAA-11E51C69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1C420-4453-427D-997E-18E9251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CBFE-AC18-4202-9C36-F2B9A31D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4410-DB05-4759-A385-00E793E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443E3-264A-4654-A6BA-C3D2BB9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F9FF-B69A-49C9-ACCC-04220B9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98596-457D-44AE-903C-C37E2BB9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0BEF-5D79-49F7-B79A-70DE5E8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CEC-F483-4AA8-9EA3-AA89AC3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B9E8-9623-45A8-BFDE-572C764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9D31-4E97-4DC6-AE0F-D751A9BB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82A7-36E6-4281-B726-C5FF3C04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B017-7FB2-4D95-A1C3-20438764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0A76-E542-46D4-B20D-C3980DE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B12D-C12D-4DD2-BB90-B8F9851B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810E7-5ECE-4C25-924C-DCD71449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72CC-44DA-4A8A-A2F2-69B799C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5DDC-6D1F-41A9-A22A-578C80C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C37E-2C6F-4283-B2E1-DCC6FCA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132-0AD6-4BD9-A6B8-38D6131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EE71-0888-4953-9B65-0ADD46B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8197-BCD6-40BD-8A16-798DE65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42D0-3803-46A9-823C-9CA16503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E5C6B-27F1-477E-8EA3-EC485713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A27E-4A03-4303-A76C-1461612F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9B59F-8FBC-4DEE-B0EA-F3908537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9289-79AE-4584-A4CF-C26D13E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2ABB-3524-41DB-AE80-E68BB30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A4E9-30F2-417A-9A8B-E6E5368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EF892-5699-4ECD-A7AF-4971BC6E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35B-2750-494B-90D6-B139183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C15EA-3159-4F99-B6AB-AF7B62A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EEE73-9C19-4E4E-BA86-05B32BA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66B7-E083-45E1-824D-C9C0D8A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74D2-611E-48E9-A5F5-B2CC6CF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896BF-B6EB-4922-A075-AC364F3F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6D841-9ACE-4723-83C6-AFF53736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CD92-133E-4790-9559-ED705183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C734-66BC-45BE-B04D-47CEF63B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2E239-318B-4052-BEFC-96091A9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579D9-D4A9-47BF-BEC5-95B56E8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B031-C37B-4B7A-854B-C7A6E97B103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3A9-709A-4E55-BC86-935BCFE533C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5DD-43CA-4142-8F4C-FBCB589853AE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Shap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B63-3279-4B7E-82D3-0AA0FFD95AD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C43-C229-489C-9A75-3962D558C9D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C0C-9F4E-4B50-B512-EF767766D92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C752-0AC2-496F-9C1F-9CCD0D02169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9DB-AE9A-4437-A7DB-B536391B32A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0A6B-16DE-404B-8C53-4B178FD819C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E533-3924-4580-AADD-FD81A8713B7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666D-04AC-43F1-940D-571256BEE7B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D81-1F1B-4D0E-A860-6734E7E5831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Brown Family Tre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536" name="Diagram 5" descr=""/>
          <p:cNvPicPr/>
          <p:nvPr/>
        </p:nvPicPr>
        <p:blipFill>
          <a:blip r:embed="rId1"/>
          <a:stretch/>
        </p:blipFill>
        <p:spPr>
          <a:xfrm>
            <a:off x="450720" y="1176480"/>
            <a:ext cx="82425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2:12:22Z</dcterms:created>
  <dc:creator/>
  <dc:description/>
  <dc:language>en-US</dc:language>
  <cp:lastModifiedBy/>
  <dcterms:modified xsi:type="dcterms:W3CDTF">2008-12-01T01:16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01033</vt:lpwstr>
  </property>
</Properties>
</file>